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25AA-F0AB-467F-85E0-BE2831E7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B712-3EE3-4CBC-9909-B5A5BF2E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9039A-5209-40FB-807F-1658053B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4AA62-DF97-4053-A511-E144EA5B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86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4670D-52F8-481D-87A8-6BDD1FB4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407D0-82BD-40EC-BFB5-983C6916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A8085-8BE5-4C92-A079-B151DE35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B6093-F490-4DA3-8590-54DD1AEF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DB279-45B7-4D03-B1DA-BD17AE3D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EB31B-2FF1-4AFB-B508-9D99F7A1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E2722-69E1-48EB-9B9D-59D4E2D2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D06B-7AF5-4493-BA66-36229209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DBF3-8EF9-48F2-85D6-6AAAE18D1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FE6E-831B-4A7F-8CB3-7034C68E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523E-FE88-41B1-AB20-DF732CE1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4F13-6164-4808-878E-590F46D0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F843-AC45-4F16-AA5A-E1030860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65B1-49C6-4066-BA9A-75F7BD9E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86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385C-CB82-485B-8B5C-B2462089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590C-AF0C-492F-9007-D781D86A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A902-DDA0-4F32-A5AA-6958C52C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C7F6-3FE9-4949-BEFB-12F81E86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C861-AEE9-4D7B-92A8-2123D3DC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E3A4-007A-4333-ABAA-76F5CA11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5404-C915-4C59-B5B0-5B80AA70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1A6A-9788-4571-9A14-DF51250E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E1B03-B06F-4A2E-856F-A04F58B0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D90C9-DAF3-4387-8468-D68303FA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7C56D-18FC-441B-986F-28EA372D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4CA92-E2F9-4377-AD87-1FC30C28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E6917-AAC8-4358-8090-F823C498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C2F0-C4BF-4244-BC8E-8073CE6F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86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A720B-D82C-4E33-9495-B3A82789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10417-4D70-420D-A776-FAD80A80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79F55-A563-4CB4-9B6B-1F7D043D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9B1F9-477F-4E17-AA7F-08A993D8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6446B-BD37-472A-BAF8-EE6A69B3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E8C59-4F5E-4812-A5FE-6A75CAD5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59EF0-9A68-4673-B430-650FA750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D97DB-9C20-4FD6-808B-288D92B6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6DCA0-1EC9-47B4-8DA7-3B837383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2210D-D99F-4EA0-8961-18D7F34A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0FCD-E6DE-4011-A051-592CDED2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FFA26-A7AF-4C49-AB37-4C61A662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E4570-2539-4E13-B64F-4B86E964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86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D0F06-15D7-4D57-AF61-AC8E9633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B33BB-E9C4-44F2-A431-CAE273CE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2C230-F6ED-4061-8875-4C14EFD0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7CAD2-5858-465D-B498-05862FD0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77038-DF2E-4293-AAEC-ACF322FA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CE4A5-3C30-469E-99B1-563B089D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67FE0-932A-4EA5-8499-45513A4A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97F7F-0F3C-4646-87D1-58B83EDA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BCC-E049-4649-B5BC-226B838F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F0EF9-AD25-4E23-9357-446AAC5D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DAAD7-AEC5-49A6-8E29-0C57F259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C5597-F1E8-481D-ADE7-FB85DDEB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EF498-F657-42E1-8A3C-8E481501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86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5D22F-E6DC-433E-8CDD-2191A55D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95176-A920-4F3B-9071-253B8164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677BD-0E5C-46CE-B875-9527F352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8FC08-CF41-4EFA-A9AF-3833C38F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8BD28-5E74-441A-88E8-3695A489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877A3-094C-4495-ABE3-0DF83106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86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A35D-F6BB-4412-9360-9872D4B8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A3B5B-33FE-497A-BD60-0EB5CA7E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47018-106D-40A3-81EB-8DF5021B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A5714-F775-4B47-A874-96E8704B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4AF85-C226-47BD-95A7-930DE7BA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7C6E1-3284-4D48-B3A3-170AA468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862B6-81B1-40DD-8DD4-DF5A69C5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86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BBEA8-0D55-4725-BB72-B6EC9BDE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3F1DD-9769-4430-AF52-51824DA0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8F786-3324-4171-A8AF-7D3CD349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34705-7A37-4A83-AD9E-DE7C294E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ED78-EEDA-4930-9EF8-DF6392AE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B05B0-CEBE-4537-827E-18412BEB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00F49-1D35-4467-9718-7F8B6D07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03B46-249F-4191-B4CD-7094405E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8F21A-750D-4FAA-8640-6EB34885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04C8F-8FA6-4CF7-8A76-4A8FFC2A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0D7A5-34F8-47F5-8CC9-788CC2DE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5CC89-94B3-4FDA-8EAF-D3336AE2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C7F1B-884A-4195-9C28-7EB5D1AC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86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686E5-7DFF-4A07-AECB-F02C4D8E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614BD-5A62-476A-BB45-481A9D68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AEBC-15EA-4C5E-8705-4D115E36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4FCBD-FBC0-4A98-99BB-4A303653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2FC02-B0DD-4935-BC3B-F56879FB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9AC4B-EF83-4459-8EB7-24CF6E37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92D3D-A538-44B6-892E-73EE8DCB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4DCCC-4CC6-471C-BB01-7B4B2177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57ABF-F90B-4719-BA5E-659A5A5D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63CBB-8AA4-4E8D-AE7F-BAD54806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DD8F9-6150-4982-B77B-2EDC858E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D8AA8-1D4E-4FC0-AAE2-F403F3AA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0D5A8-F085-44A0-9FC5-DD541615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DF9-8DBC-4688-8107-1F06F024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86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4E78F-80A3-4F1A-97F4-4ADD7199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7933C-2672-43B2-8A17-4678B126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A19CE-558E-4223-A20E-5BB5DFF9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DB442-F3ED-42BF-807F-6E57DA01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14DFD-8848-47F4-9876-47F04C82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DD2F1-A4CB-4EB4-B461-66C2BE36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19FC9-ED21-4B3D-BA70-A8D7F8A0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44E61-BD90-44D1-BE8E-5D6BD796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72491-FADF-44B8-8BE3-0F9DE54A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B86C8-26FD-4DDD-AD9D-5748DFA3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Handage AOE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0D3B-5629-48CB-9CED-01FAF27FF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C3F2-E77D-487C-BB74-D6C2EB8BD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8771-716C-4E96-9673-2D0FB8AEB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45E0-42F3-462C-81CF-7BD730401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B6C2-8F20-4E3E-8C0A-3F9C01359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15E0-6F0B-45BA-B2D1-66D381B6B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8E5D-C652-44E0-B67B-D4652D428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41D7-80AE-4803-9209-A68E742FB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10CD-3831-4853-944A-EAF0779DD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Handage AOE"/>
              </a:rPr>
              <a:t>Chapter 11 Review</a:t>
            </a:r>
            <a:endParaRPr b="0" lang="en-US" sz="60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25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Handage AOE"/>
              </a:rPr>
              <a:t>What are subordinate ideas?  Can they be coordinate to each other?  Explain.</a:t>
            </a: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ordinate ideas: ideas that support more general or more important points in a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 be coordinate to each other if they are equally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Handage AOE"/>
              </a:rPr>
              <a:t>What are two possible outline forms?  Why should they be kept distinct from one another (except for in the speaker’s outline)?</a:t>
            </a:r>
            <a:endParaRPr b="0" lang="en-US" sz="40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rase outline: uses phrases or key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 outline: uses complete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ing the two is confusing and incon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Handage AOE"/>
              </a:rPr>
              <a:t>What is a working outline and what purpose does it serve? </a:t>
            </a: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outline: an informal, initial outline recording a speaker’s process of narrowing, focusing, and balancing a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Handage AOE"/>
              </a:rPr>
              <a:t>What is a formal outline?  Explain what should be included in this outline.</a:t>
            </a: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outline: a complete sentence outline written in sufficient detail that a person other than the speaker could understan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Handage AOE"/>
              </a:rPr>
              <a:t>What is the purpose of a speaking outline and what may it include? 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ing outline: a brief outline for the speaker’s use alone and containing source citations and delivery prom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Handage AOE"/>
              </a:rPr>
              <a:t>What are the five purposes of outlining?  Describe each one thoroughly, and explain why each is important.</a:t>
            </a: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s the scope of the speaker’s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s the logical relations among parts of the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s the relevance of supporting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e balance or proportion of the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s as notes during the delivery of the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Handage AOE"/>
              </a:rPr>
              <a:t>What traditional principles or rules help simplify outlining?  Describe the five discussed in Chapter 11.  How do these guidelines help make outlining less difficult? </a:t>
            </a:r>
            <a:endParaRPr b="0" lang="en-US" sz="40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etter or number should represent only on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and subordinate points should be represented by a consistent system of numbers and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point has subpoints under it, there must be at least two sub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ymbol in a sentence outline should introduce a complete sent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points throughout the outline should have parallel grammatical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7:43:27Z</dcterms:created>
  <dc:creator>nuhs</dc:creator>
  <dc:description/>
  <dc:language>en-US</dc:language>
  <cp:lastModifiedBy>nuhs</cp:lastModifiedBy>
  <dcterms:modified xsi:type="dcterms:W3CDTF">2008-02-27T00:03:37Z</dcterms:modified>
  <cp:revision>4</cp:revision>
  <dc:subject/>
  <dc:title>Chapter 11 Review</dc:title>
</cp:coreProperties>
</file>